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CHIMES.WAV" ContentType="audio/x-wav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3355-1762-49F5-81B3-5F8B7A1A1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6D0D-BE2C-47DA-BBD3-6F9E3210F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1763-4640-407F-A26D-A9B05019E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D9C1-657C-41CE-A548-EE59FF99F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A63D-C927-4FE4-BC92-EE63CD5AA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FA7D-AA73-486C-9DA8-6A827631B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54D4-4702-4ADB-8573-41D1287E5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624B-2CC7-42EF-9A75-8EB6D6F2E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C2B-FDC5-425A-946C-5CAA5CA3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5C0-2C86-4723-8670-A519AFCC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F6F-2DBB-435C-A299-02B2F375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AE9-646E-4372-B9B4-F0F2C079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1E23-5F43-4D35-BCAD-0ABC87B0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7109-4E9B-463C-A784-570D0BFB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C402-A197-4EEF-BCE4-995B8663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E94F-4596-4B66-BB6B-6993B28F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D395-D069-4901-8075-A481432C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8942-2CE2-42F8-B1B4-6084F763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AB14-81FE-4C01-81DC-050139F9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13F-967F-444C-BED6-954C2E5C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A0D5-C5DB-4BCF-B104-CFFFB869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8C7A-A092-41EA-B7A9-DF753069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5FC8-1889-4754-96CF-7BE42455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125F-D825-401F-9856-7E34F6EF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CE99-B647-41F3-BC86-616048F6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DCF-EF60-4F55-BAFD-4B64155E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A5C-E900-458D-A8C2-9CD058F1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DAF-6F15-4878-B7FA-4A515D39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7E2-1D29-4873-A252-4B755C5E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A91-A338-44EB-AD95-BE1EB7D0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BD2-ED4A-4417-A0F7-7FA99DC6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624-390D-44B1-A2AF-87A5FCF0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7FF5-9DEB-4FED-A69D-2561BADF870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4B26-B41A-432A-9182-90415689713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hilosophies of Edu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hilosophical positions and statements of purp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ism (2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ssentialism avoids some of the waste inherent with experimentalis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t it can become so conservative that it fails to truly educ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Object 4" descr=""/>
          <p:cNvPicPr/>
          <p:nvPr/>
        </p:nvPicPr>
        <p:blipFill>
          <a:blip r:embed="rId1"/>
          <a:stretch/>
        </p:blipFill>
        <p:spPr>
          <a:xfrm>
            <a:off x="4648320" y="261936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676160" y="2285640"/>
            <a:ext cx="6476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mphasis on a traditional   educ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evelopment of the mi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ore curricul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Reality is based in the physical worl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eacher-directed lear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1600200" y="5335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What is Essentialism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676160" y="190512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Reading, spelling, language a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Mathematics, U. S. &amp; World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No vocational education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838080" y="68580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What would essentialists teach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676160" y="182880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Standardized tests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Criterion referenced test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Not as likely to require portfol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WordArt 3"/>
          <p:cNvSpPr txBox="1"/>
          <p:nvPr/>
        </p:nvSpPr>
        <p:spPr>
          <a:xfrm>
            <a:off x="1066680" y="380880"/>
            <a:ext cx="7086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How essentialists would evaluat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student's learning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371240" y="213336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Using only text b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eated row by r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eacher lecture, students lis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unishment--attempted behaviorism but without experti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1219320" y="53352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Classroom manag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676160" y="1905120"/>
            <a:ext cx="6476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each the basic civilized skills of reading, spelling and measuring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Limit education’s responsibility--let industry teach vocational subj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1066680" y="53352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Orientation of Essentialis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676160" y="2285640"/>
            <a:ext cx="6476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Writing te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ultiple cho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rue/Fal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inary-Cho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atching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WordArt 3"/>
          <p:cNvSpPr txBox="1"/>
          <p:nvPr/>
        </p:nvSpPr>
        <p:spPr>
          <a:xfrm>
            <a:off x="1600200" y="5335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Reality tes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676160" y="2285640"/>
            <a:ext cx="6476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ll students will remember the basic information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ll students will learn how to pass the tes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WordArt 3"/>
          <p:cNvSpPr txBox="1"/>
          <p:nvPr/>
        </p:nvSpPr>
        <p:spPr>
          <a:xfrm>
            <a:off x="1600200" y="5335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Future orient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eriment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erimentalism is associated with a very broad but shallow curriculum.  Many electives, few required subjec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erimentalism is friendly to educational research, and many new ideas come from it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erimentalism (2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Object 3" descr=""/>
          <p:cNvPicPr/>
          <p:nvPr/>
        </p:nvPicPr>
        <p:blipFill>
          <a:blip r:embed="rId1"/>
          <a:stretch/>
        </p:blipFill>
        <p:spPr>
          <a:xfrm>
            <a:off x="685800" y="2414520"/>
            <a:ext cx="3809880" cy="3551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t experimentalism can be wasteful of resour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t can also fail to follow throug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commodates fads  too easil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ols of Philosophers (1 0f 3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xiology is the study of values; it asks the question of “What is good?”  From axiology, we arrive at an understanding of “What is good?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e get ethics from the study of axiolog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eriment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perimentalist teachers like to </a:t>
            </a:r>
            <a:r>
              <a:rPr b="0" lang="en-US" sz="2800" spc="-1" strike="noStrike">
                <a:solidFill>
                  <a:srgbClr val="a50021"/>
                </a:solidFill>
                <a:latin typeface="Arial Black"/>
              </a:rPr>
              <a:t>tinker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or experi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don’t like to leave things the same all the tim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Object 4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28456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assroom Management for Experimentali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n’t like bmod or assertive discipli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efer more constructivistic approaches such as Discipline with Dign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Picture 5" descr="C:\Documents and Settings\sid.womack\Application Data\Microsoft\Media Catalog\Downloaded Clips\cl23\j0088928.wmf"/>
          <p:cNvPicPr/>
          <p:nvPr/>
        </p:nvPicPr>
        <p:blipFill>
          <a:blip r:embed="rId1"/>
          <a:stretch/>
        </p:blipFill>
        <p:spPr>
          <a:xfrm>
            <a:off x="685800" y="2233440"/>
            <a:ext cx="3809880" cy="3913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experimentalists would tea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685800" y="2690640"/>
            <a:ext cx="3809880" cy="29988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Everything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-anything that had any relation to students’ possible futur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as been accused of trying to do the home’s job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experimentalism shi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n essentialism or perennialism have been in power for so long, school programs have become stagna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n school has become all work and no p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n traditional methods have become ineffectiv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enn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ennialism was prevalent in the early seventies in U. 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ennialism reveres the experience of teachers who have been ther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avy orientation to the past 20 years--almost nil attention to the futu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erenn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Perennialists like to teach time-honored curricula, including the classics such as Plato an Aristot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They don’t like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ange</a:t>
            </a: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4" name="Object 4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240000" cy="3328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erennialism</a:t>
            </a: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</a:rPr>
              <a:t>They would include subjects such a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English litera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World Geograph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8006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Trigon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Ancient 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World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U.S.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Book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erennialist Evaluation Methodolo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Teacher-made tes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Standardized te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Memory work (“mind is a muscle”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Spelling be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lassroom Manag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Assign seats in row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lnSpc>
                <a:spcPct val="16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Be strict, but not necessarily expert, with punishment and reward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lnSpc>
                <a:spcPct val="16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Set up classroom rul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Orientation Expect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Self-contained knowledge--teacher is supposed to know all the answer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Teacher is the “fountain of all knowledge.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Students are passive listen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ols of Philosopher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(2 of 3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pistemology—”How do we know what is true?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s is a live question today—Do we listen to standardized test results to determine how much students know, or read their portfolios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Reality Testing for Perenniali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Black"/>
              </a:rPr>
              <a:t>Paper-pencil te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Black"/>
              </a:rPr>
              <a:t>Recit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Black"/>
              </a:rPr>
              <a:t>Standardized te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6" name="Object 4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04956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Future Orientation for Perenniali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Black"/>
              </a:rPr>
              <a:t>Expect future to continue in the same vein as the pres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Black"/>
              </a:rPr>
              <a:t>Belief that knowing the classics of the past will equip students for the futu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Perennialism Shi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ennialism does help to dampen the uncertain effects of the fads that come to educ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t every new idea is a good one, or one that will even be effectiv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ennialism plays well to traditional communit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havior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ehaviorism believes in a science of behavior that would shape the world into a better place to liv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ehaviorists to some degree rightfully claim that behaviorism naturally occurs in the world whether people acknowledge it or n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behaviorists believ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haviorists believe in a science of behavior\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rely heavily on scientific studies of behavior and how behavior is influenced by its consequ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Object 4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50352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behaviorists would tea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ehaviorists are at least as concerned about how people behave as what they kno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y do not tend to be big innovators in curricul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y will however give a fair trial to any new curricula that someone else might wri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hecke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Behaviorism shi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pecial ed situations, where students do not pick up on subtle cues about learning or behavi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lternative and problem scho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Picture 1029" descr="C:\Documents and Settings\sid.womack\Application Data\Microsoft\Media Catalog\Downloaded Clips\cl0\bl00552_.wmf"/>
          <p:cNvPicPr/>
          <p:nvPr/>
        </p:nvPicPr>
        <p:blipFill>
          <a:blip r:embed="rId1"/>
          <a:stretch/>
        </p:blipFill>
        <p:spPr>
          <a:xfrm>
            <a:off x="4648320" y="276372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behaviorism will come sh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uations where behavior is not so much the need as the learning of academic cont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uations where students have internalized appropriate behavior and behavior does not need to be emphasized at the expense of scholarship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hecke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construction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onstructionists point to a time in the past when they believe that things were bet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y would re-create education to be like things were back during that ti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y cite research, particularly historical, to show that things are not going well now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reconstructionists believ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3779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nstruction-ists point to a time in the past when they believe that things were bett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would re-create education to be like things were back during that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Object 4" descr=""/>
          <p:cNvPicPr/>
          <p:nvPr/>
        </p:nvPicPr>
        <p:blipFill>
          <a:blip r:embed="rId1"/>
          <a:stretch/>
        </p:blipFill>
        <p:spPr>
          <a:xfrm>
            <a:off x="5154480" y="2133720"/>
            <a:ext cx="27957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ols of Philosoph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(3 of 3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taphysics is somewhat related to epistemology and asks the question “What is real?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e the things that are real only the things that can be touched and measured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ehaviorists vs. existentialis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Ba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reconstructionists would tea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onstructionists would teach the subjects that were taught during that “golden age.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subjects would be those that were taught during that tim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the 1960s, for instance, they would teach usage of the slide rul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ll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e example of Reconstruction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946—right after the Second World W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Is wanted schools and society to return to what they were before Pearl Harb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2" name="Picture 1029" descr="C:\Microsoft Office97\Clipart\Popular\destryer.wmf"/>
          <p:cNvPicPr/>
          <p:nvPr/>
        </p:nvPicPr>
        <p:blipFill>
          <a:blip r:embed="rId1"/>
          <a:stretch/>
        </p:blipFill>
        <p:spPr>
          <a:xfrm>
            <a:off x="4648320" y="2190600"/>
            <a:ext cx="3809880" cy="3999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constructionists and technolo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ir orientation is very much to the pas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and perennialists do not react immediately and positively to new 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5" name="Object 4" descr=""/>
          <p:cNvPicPr/>
          <p:nvPr/>
        </p:nvPicPr>
        <p:blipFill>
          <a:blip r:embed="rId1"/>
          <a:stretch/>
        </p:blipFill>
        <p:spPr>
          <a:xfrm>
            <a:off x="4648320" y="2673360"/>
            <a:ext cx="3809880" cy="3033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istent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istentialists celebrate the human existe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ery subjectiv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mphasis on meaning within each individu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y doubt external reali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mphasis on pres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ll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existentialists believ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istentialists believe in the consciousness of the sel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are very concerned with whether students find school to be a satisfying experie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0" name="Object 4" descr=""/>
          <p:cNvPicPr/>
          <p:nvPr/>
        </p:nvPicPr>
        <p:blipFill>
          <a:blip r:embed="rId1"/>
          <a:stretch/>
        </p:blipFill>
        <p:spPr>
          <a:xfrm>
            <a:off x="5611680" y="2133720"/>
            <a:ext cx="18828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existentialists would tea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t the same subjects to everyone, since not everyone would enjoy the same thing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would emphasize self-esteem and a feeling of self-wor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would include topics such as values clarification and . . . 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 example of existent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960—Summerhill School in Englan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970s in some parts of America—self esteem, values clarific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Picture 5" descr="C:\Microsoft Office97\Clipart\Popular\flower.wmf"/>
          <p:cNvPicPr/>
          <p:nvPr/>
        </p:nvPicPr>
        <p:blipFill>
          <a:blip r:embed="rId1"/>
          <a:stretch/>
        </p:blipFill>
        <p:spPr>
          <a:xfrm>
            <a:off x="1168560" y="2133720"/>
            <a:ext cx="284292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 healthy bala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of the six philosophies has something to off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only hazard happens when one philosophy rules for a long period of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9" name="Object 4" descr=""/>
          <p:cNvPicPr/>
          <p:nvPr/>
        </p:nvPicPr>
        <p:blipFill>
          <a:blip r:embed="rId1"/>
          <a:stretch/>
        </p:blipFill>
        <p:spPr>
          <a:xfrm>
            <a:off x="4648320" y="268596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rposes for Edu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lda Taba, 1962--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t the cultural herita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form the cul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ximize human potenti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802040" y="213372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Seven Cardinal Principles (1 of 2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20574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ven Cardinal Principles of Secondar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on Re-organization of Secondary Education (19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of fundamental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thy home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tional compe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Seven Cardinal Principles (2 of 2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1981080"/>
            <a:ext cx="914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ven Cardinal Principles of Secondar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on Re-organization of Secondary Education (19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ize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thy use of leisu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al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ut what do these mean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aning comes from at least six philosophical positions that “filter” or influence how people perceive educational event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5027760" y="2133720"/>
            <a:ext cx="304956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lmost an entire generation in America has grown up under essentialism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ssentialism is a conservative view of curriculum that holds schools responsible for only the most immediately needed instruction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6:08:28Z</dcterms:created>
  <dc:creator>Sid T. Womack</dc:creator>
  <dc:description/>
  <dc:language>en-US</dc:language>
  <cp:lastModifiedBy>Thiry-Wenz, Andrea</cp:lastModifiedBy>
  <dcterms:modified xsi:type="dcterms:W3CDTF">2011-09-19T20:14:09Z</dcterms:modified>
  <cp:revision>18</cp:revision>
  <dc:subject/>
  <dc:title>Philosophies of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education.atu.edu/people/swomack</vt:lpwstr>
  </property>
  <property fmtid="{D5CDD505-2E9C-101B-9397-08002B2CF9AE}" pid="9" name="LinkColor">
    <vt:r8>16711782</vt:r8>
  </property>
  <property fmtid="{D5CDD505-2E9C-101B-9397-08002B2CF9AE}" pid="10" name="MailAddress">
    <vt:lpwstr>sid.womack@mail.atu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\Web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